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CC5-99A5-4B47-91C7-8A2119AA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BD9-139F-4762-A389-07AE7C2C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728BE-DEE9-4F0C-817B-8D519A44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2AD63-B249-417F-885C-D20A4D11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122FE-F502-417B-B4FC-85FAC03D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A9DFE-5490-4D56-A5E6-6A12A4D8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A846E-3FDC-43D0-B8BF-898E318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56BF5-60AA-4580-BA44-B45A55F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95340-2747-447F-A803-84BCA438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20656-D92E-489C-BDDB-4D2C948D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9F4FE-076D-46DE-9166-E22B3A0A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6783C-0198-425F-A4C9-F23AC482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705-844D-46BD-9572-E442C232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39448-5E55-4CD3-90DE-1527B367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A5826-6787-4A1C-86E2-E7BBAD3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3E350-CB37-44BE-91B7-FFC43C5D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4CD34-9EA0-423F-9266-AEE54FC6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4AA76-9CB3-4DE5-87BE-7BD79B4F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7BB79-C1CD-4480-8938-EA8346F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9D508-E236-4C8B-A226-FBF1E32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E1035-A423-4311-9291-0CA5D057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86358-87E2-4015-B772-0F848187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3B6E1-556F-45BF-BD30-7B91F1AF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BDB-4015-4CF9-BEB9-FDAD46DA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A0EEC-FC84-406A-A549-FAC7D92C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346DC-DA8F-42B1-A1C2-1098D805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4B1D7-311A-4582-A026-A523FEB0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8B645-E3E2-4FD5-A22E-CF50BA55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163BA-BC3D-4C6A-AEA8-E71B7517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75D44-D54B-49E1-A5F1-AB3753DF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BBDE8-B318-416F-92F0-C07E4CE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5215C-C9D7-48BA-B489-24EF1DEC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1C0FD-193B-4506-AB7C-71F7A2AF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55C0A-72D7-4970-9268-46071A0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6B3C-FC9F-46A5-9738-489BFDE4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EC9A9-183E-48A0-92AB-5918C7D5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33306-4B0E-491E-9423-575D0DB6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CD7E5-9D0F-4B61-80D4-0589F5A7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7DFB5-F770-4806-9FF7-258D3B0D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77285-EF18-4121-8CE9-67650267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F1089-4816-4C60-9411-B5B3AFD2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D4978-26C6-4828-A664-C8ACF78B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01CC1-B306-4B96-958F-8B06430D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7D698-0A1D-4EFE-89F1-162DB12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639C7-1EE4-4C1E-9881-8656BE69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B4E0-1377-4C5A-8AD3-3C5B6680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6FFD4-A03B-41D4-9C97-DCCC6216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B34FE-9257-4E7F-8456-AB3F245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A224D-D571-4A48-B44D-3ECDA68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3E714-D423-438B-8BC9-5C738907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47951-6878-43AE-9D0A-F3FECA91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04593-BE6E-4801-A11E-B1C3B85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EEFCF-C027-4214-93CF-D870F9C0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91A10-B77A-4351-BF5D-483CC604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B76D1-0419-44DF-928B-85D28DE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2CFB1-D12B-4390-B314-48DDFBE2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5A36-1AAD-4BF2-AABE-7E10AF06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72659-75F0-4F29-96F9-C60E56C7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E0731-8201-4DD2-97B7-D23741C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AC477-398F-4537-A715-2F20A251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D4F9F-3C8A-4ACA-BB0D-5B4471E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9F91B-F68B-4EF0-8C7A-9FB1E177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98EE4-F707-4C7F-B5B1-BECBFB6C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674AB-9F3D-4431-8221-5E5FB973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0CD18-C604-4F60-87ED-9B514E16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E7661-683E-448A-956A-800625A4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F7E88-2C17-41D6-88B3-E122762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E3C7-9D0A-4E6B-97D7-D8AEB33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7FC82-F845-40B6-AE82-B0E276DF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94EBF-4EE5-44D0-82E7-967CEE3E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C099E-EC07-4181-B3CA-4A2E1F2E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5EA8C-2E25-4653-B4AB-97458029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43454-D139-46CF-810E-F70BE56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980D4-C7CA-4A77-956B-94212D96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0434E-E5F2-4F14-ACF9-BDD1131A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3F152-96C3-4BA5-97CA-554D9C49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97B87-A780-4171-BE02-40F1DC2D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7D6F2-0D91-40B0-9B0C-2895CD67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9BD8-6776-4F5E-9CFC-802F748F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C25C2-7472-4432-A08E-DAB8CF8C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4E056-AF31-4865-AB78-A382C07E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5C33D-A3A8-4895-BB9F-8DC643EF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F625A-8834-4B04-819D-8FA334BC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CB836-B4DB-41D6-9C92-DFC870C0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6EDC4-A796-4EE0-BCAC-9E64FF65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AC179-C260-4C58-8DD7-6B89FCE0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49642-2D6B-4397-AD82-C177D9E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0271F-BB19-4011-A7B0-313027DD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055C6-4031-4EF3-8B24-9888D25A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8EB0-0EB5-4B98-BBF7-43CE35FD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C16AE-9CC9-4662-9682-81185D62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6AB9B-2B22-4575-AB2F-50504240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4368A8-13DC-4A2C-8A91-E2EB835B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CE514-D1F4-49F7-A47F-5B82BB59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A6AF4-78F1-4D3C-BAE4-B9050722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7FB8C-CC02-4852-AF85-E9D658B0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16CD3-B0EA-4EAF-8399-4B3514C3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30DF4-78AB-45AB-AAE4-D888C6E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2E5CC-0499-46A9-BCEE-94C070D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64780-11EF-4673-A103-ECBF9841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230B-D872-44CB-92FA-9B0380B4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25D41-45FC-4CFD-87A0-5B81A0F0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25BEC-16C8-4AA2-8E74-C845438D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4ACF3-E39C-48E1-96AA-1BC41E63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70301-D6B1-456C-AC3D-68600989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3917AD-20BA-4964-8A5B-7F33B7E6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BD7A3-06A0-4704-9938-464DF88E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AE460-1034-4100-8533-B75E6661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4CEDC-A5B3-436A-A1C3-893DFF94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09112-1057-4EE2-B2DC-F640FE8D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03A6F-E9AB-494D-AE13-BCB2AB9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0AE-80A1-4DFC-819F-82AE20F3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FEE1-9FD3-41A4-8F39-AB3908A8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1BFA2-78DC-4A06-AF59-9765D0B9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E24AE-533E-47F7-8AFA-5235C158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576ED-9EFC-4E1E-827E-C3DD4B89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11E93-03DE-417D-A1E9-706AD3F5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2D4A7-1F49-4761-81F2-B3EBC40D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DA62B-03CE-4540-860D-79035291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0E687-EAC0-40E6-987C-098C4722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C1429-688B-4A2D-83A4-B0D81273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C6747-17B7-421A-B6F5-91EBD95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115562-28C9-405D-BFE1-987ED62E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2A54-51B0-42B7-B992-35715BD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390FF-A66C-4BCC-93DF-EC68BD6E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15E89-CB37-4D80-B640-51397BDE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B7CBF-2238-425B-BF15-8878730D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1D360-D841-423C-BF64-1A6A56A1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1B86C-C3DC-4CB3-A692-C288CAF3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CC0C3F-32FF-44EB-A8C8-F62D6CA2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50832-D3C9-4C2A-8BA8-DD243071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7517F8-4764-4BD9-BE3F-A4D2732C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CEF2B-5D30-4CF9-AAEA-F372F42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A6FFB-1657-4135-9F08-6FF9237E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6CAD-6657-4862-AB62-DB19F8D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6A21C-F8DE-4ECE-807E-68DFF803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406DD-B43E-40E4-9549-2E91EBCB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2389E-FE0E-47FB-A927-ABAF1803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0BBC5-EBE0-4FC4-BE58-1EC69BEC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4A7D8-EA85-42AB-8845-BE56B7A6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BEB36-C1DA-42F5-8F95-A437961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1AFB3-FF3C-43EB-A3F0-9A6FEF81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A9A52-ACD7-448E-9AF3-7AFB3AAB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44E6A-84F2-4563-8A22-BB6469EF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CE63A-3BBF-4383-A6D7-331DC530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C216-96D7-41B8-AA8D-E62D3FA9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758BA-0D85-469C-9E72-2D367FF9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F39271-1AEA-48AC-9E55-263FA73A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3CF68-719A-4A4A-9B3F-B054BED3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EB833-1128-4EA3-B589-3E5E67C1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46BF7C-0CCB-403F-A557-89848644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33998-7619-4F39-8856-C6C9075F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40B9E-A255-4A8F-AD94-5F66245C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94B1C-0F88-4280-9E29-35DBFE04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06788-A6C8-4D54-A54F-75BFCD4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5B051-4A0C-4820-B38B-0DB2A9E9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0109-EF3C-4AB5-8B6D-97F070E1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8FF1E0-74C8-493A-B849-FDFF0EAD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A3B4A-852B-4149-B928-6A07CB90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B82B00-BAC2-427F-804F-E27AEF0E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82EAB-664C-44FA-8BDF-2E19DAB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E4317-B726-4031-BA88-A760DD7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B9E6A-4570-4B3E-9CAE-B8DD8A7B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FB4BE5-F701-4CD9-875D-7E5040D9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1CB889-FEE4-452D-A231-F2E6513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4D349-3C94-4610-BA29-D92D12A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53BA2-547B-479A-8464-082D9201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9B1FA-0738-4834-90A1-5CFC09EF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9FDCF-0665-4C01-A56C-9F3E647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3AC62-5EE8-4651-9A7F-3FF34BE5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7A6309-C426-40D7-82F7-BEFA3BDD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9D9D2E-21D1-4830-ACC7-EEECC482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D23D67-88A6-41BA-AE5D-D828F800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0A5217-8DBD-44E6-86A2-619A183F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AB64BC-E42B-428A-8279-F137D880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16B0A7-834E-4FC7-9D13-BED83CFA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321DFB-E909-452A-8AED-4DE87081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9A39C7-77B3-435E-83FB-0258745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1FB8-C132-41BB-9361-5965D5B5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537D6-C39A-49A4-83FE-E07D6555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67EF67-DDB8-43E9-97E2-6365100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AE8119-3F2F-4BCD-8EA5-DC31540E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A6D50C-509B-45ED-8A07-29F4BDE1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5B7898-4CCF-4D8A-9AE9-BFBAE035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4C9868-C4B5-4581-80F5-1EA555C2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F140BD-E174-4CBF-B6E6-290198F0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CAC165-A7FD-4656-9655-1DB64B7B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0E7DB1-012A-4210-9BB2-2C79DD71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DDAA05-2BD2-41F1-8FB9-47145285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CB2B-D876-46F1-8768-886D82EB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020A38-C692-4E29-A376-9391105B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353E6D-DA0B-44C1-A323-BFF7A98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A04FE7-73F6-436F-B18A-96EFE552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488463-075B-42DC-8789-8129F21F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19F31C-646C-44E7-80E0-452D9253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727C4C-B258-4292-9776-3193DFF8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5C72A-AB4D-4480-9B7B-54C6A4F4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D1B29-686F-4917-9CEB-77DD64CA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2358-3E6B-48CF-BFDD-84FC2FA6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4B6-47AA-41AA-AEB9-D3707B60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9EF0-EB49-45CC-BAA3-0DD85AB2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CCD4-AA9C-4137-B775-881762A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D8A9-A09D-4DE8-A3AC-9927188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CFDF-468F-4FA5-89DD-D96B9AA5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3E99-A9CE-44A3-A300-A450211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5BD0F-73ED-4B7D-A610-E61B3F92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EE81-BB93-4EF4-8F3A-BB5A0691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8E63-E93E-4400-871D-74BF4D20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79994-3F2F-4202-AECF-44230FE6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79D3C-B16D-4C89-920B-EB592A39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DFF-B3A4-4BC0-A75E-680C38C9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59CBC-D15B-4A65-B010-EADFE364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F0D35-86D7-4B2F-88CA-DFE9B8C6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A39B-BB7A-42D9-B441-AEEEE547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7959-B943-459E-B11F-8DC5E7BF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463B-31FB-4A9B-B676-0C3FD388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DA6E7-7DF4-479D-8BF6-DDBB364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B720-D1AB-4A16-9044-0D4E45F7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FABF-E120-4784-971F-D21B822C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A32D-84A1-48AC-98C2-172AB784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A4567-A1F2-4249-AC69-4D57A6A3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189-5EDD-464E-9485-F95A943B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FF524-EE8A-4E0F-AC5A-33FD199B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B7F67-8871-4601-A51A-AB302AA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C368-A2EB-4218-B593-ED63A6E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6AAC2-3CB8-4981-A7A0-B5B7F195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A693A-EEE7-4A7F-8EEE-07833137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82732-F794-4094-9F0C-6A9A27B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7D9B-29F3-4322-AC82-99004266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F2AB9-4C9E-437D-BC0D-5FE197DC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B0918-3BC7-47D8-ACA4-7A06EA98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C0BAF-E7A6-408B-A85A-976E1B4A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268-6CD3-4CE9-85CC-C320438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DF0F-7AC0-480A-A867-E22C10EA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CDD17-9F49-48C9-9C5B-3C7B1E21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4F1A2-6533-409E-A975-F3056714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5BDB9-C519-4F47-823A-2A5DD7A0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DD814-2EF3-4995-9E86-7BA36F5C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FF312-9E26-4C6B-A0F3-3E447800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5B825-56F4-4621-8118-BE5FACB5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3C86-9A5C-4A05-8C8B-8A5DCF3F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3177A-0D7C-4FF0-93EA-6068B86D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A944-5D12-4799-901E-36CABC26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09A-3DFA-472A-A7B6-6AE57C04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65C9F-D15F-4559-BD6B-0AC7535C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C9DFD-D87A-4916-91AF-CAA43D5C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EA84A-D4D2-4DED-8593-26CABCAA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E9BDD-8203-447F-98EE-D64E57D2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97C88-0E9A-4DF0-A9CA-AD82961C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2761-89A8-41B7-8443-CC799084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89333-21AE-4090-B48D-E4359A45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37667-F1E5-47FE-BB9D-A8E30EE0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2FEA6-29FE-408E-80EF-E7E61EAE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EE2A6-9B5E-4A6C-B358-778600C6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7C4-E783-4EED-A28E-A6D890B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55046-C4CA-4B3B-9315-36B383FA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AAEB1-F403-4929-93A5-C4FC7D8B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F2E6-A99B-4AC6-8BDF-68233BE1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A3BE2-2C60-4471-BA40-F70B1D23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3BA05-ED00-4E08-96BA-C338F633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3F27A-C5E9-47EB-AEDD-A550E9C3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DCD94-429C-4EA5-A0D6-2CD5ACF9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0861-1441-4317-A5CB-9BC43EC4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7EC9-ADF9-4DE9-A754-BDB90794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403B0-2120-4A58-99D5-85C04819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386-A763-4CEB-AAD1-FF8C173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FF4D0-29CF-433C-AE81-09F20DF9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4D79D-392D-42F3-A99E-B6E92C1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842D0-B36E-44B6-8A8A-5A4E3C2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7A2A6-9124-4855-967F-28AAC08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22BF9-FD4B-4A33-A1A3-E26F6678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841CC-38C6-44AB-A229-54AE1826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1262F-9EF1-4A0C-96EB-8C2881BE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972CF-E584-4379-82CF-C8F37D3E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C578C-2E73-417A-824D-E65AE4DF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BA351-4EB1-40A7-907E-3B659553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DC4-3962-40DB-9300-DC9B51F7B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37DE-FE42-4E3E-9BDB-A687EEA24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A769-93D2-4249-9C5D-6FF40DC4ED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228A-7CBA-49C5-BCD7-C364039E31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7D54-58FB-46F0-808D-E0B0BE827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6459-BA4D-4AA1-895F-F97EB37E53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3D65-70D5-4626-9D84-4A3A9EF8A8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E7ED-4447-4502-ABFC-38F8C29E4E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076-557D-4F17-8431-4337A8577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ABA3-5662-4915-9A79-92B135091A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A904-52B8-45B1-AB7A-CB0211F728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6BA8-FAB3-49FD-ACAF-244D3BCC7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178D-9062-41CD-9A42-A1B808CED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B9D6-6AED-46E9-92DC-47CA3D4CF1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3AFA-58FF-40E6-9510-1A45C1D749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A161-83D2-4C91-AAE4-1B183F58D5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529D-5AB9-44A8-96E3-EA93DD12D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77E6-EB3F-4414-8ECA-47E6EC79D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1AAD-821C-40CD-86E3-BA01E2A3A4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F15E-8E7D-4805-961F-F0A503B664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9734-9F67-4303-8B41-E2EF9D4131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FA2F-A0F9-4E6C-949C-638C4C2B13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311-8625-4A5A-8929-DAC148785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DCD1-A1AC-4037-B985-00C5887017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5CC8-F930-42A8-B272-F03EB9E499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9703-E45F-45B4-A069-45F562BC9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91A2-CF82-4EE3-B6DB-732E879D8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708A-7C9A-4E2C-A237-BCAAFCB4DB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4C70-14D1-494B-8349-91DE757C75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C4CD-C2EF-44D0-8BCA-C08A231E5B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258F-02B1-4259-9644-BA0EB36BE4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DB64-A09E-4F65-BAA2-D37E04B0A6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F72E-C5F6-447B-BF20-1BFEC72375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00C-7899-4B40-8310-8FC9DA7A8F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366-57BB-4D41-A6A6-D29B58F49E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3E1A-0122-4605-A5F2-495090BC0E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8BC2-C1DD-465D-9008-A3D46B4878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28FD-8FAD-4380-9F49-C08CD3DD7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7D7A-B86A-4715-A372-1B847111E1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6F53-463F-4BF3-A3AE-A96809F83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E37B-3C66-4EEE-9E82-C89831E35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0B4-F5E5-4C61-AFDC-72A3120F1B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728800" y="2905200"/>
            <a:ext cx="36864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200160" y="593640"/>
            <a:ext cx="8743680" cy="6248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755640" y="1571760"/>
            <a:ext cx="7056360" cy="4093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611280" y="2506680"/>
            <a:ext cx="7056360" cy="4096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7056360" cy="4096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755640" y="5357880"/>
            <a:ext cx="7056360" cy="4096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755640" y="6265800"/>
            <a:ext cx="7056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23920" y="966960"/>
            <a:ext cx="86947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95120" y="803160"/>
            <a:ext cx="8751960" cy="57229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504720" cy="4096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504720" cy="4096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504720" cy="409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539640" y="6093000"/>
            <a:ext cx="5050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366840" y="1219320"/>
            <a:ext cx="8408880" cy="44193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504720" cy="409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755640" y="2089080"/>
            <a:ext cx="504720" cy="4096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755640" y="2565360"/>
            <a:ext cx="504720" cy="409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826920" y="3429000"/>
            <a:ext cx="505080" cy="409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826920" y="3933720"/>
            <a:ext cx="505080" cy="4096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7"/>
          <a:stretch/>
        </p:blipFill>
        <p:spPr>
          <a:xfrm>
            <a:off x="755640" y="4797360"/>
            <a:ext cx="504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90440" y="1057320"/>
            <a:ext cx="8763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538200" y="722160"/>
            <a:ext cx="8066160" cy="425628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571680" y="4861080"/>
            <a:ext cx="79992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662040" y="1085760"/>
            <a:ext cx="7818480" cy="46864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504720" cy="4096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504720" cy="409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5047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547560" y="1071720"/>
            <a:ext cx="8047080" cy="47145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505080" cy="4096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5050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228600" y="658800"/>
            <a:ext cx="8686800" cy="5199120"/>
          </a:xfrm>
          <a:prstGeom prst="rect">
            <a:avLst/>
          </a:prstGeom>
          <a:ln w="0">
            <a:noFill/>
          </a:ln>
        </p:spPr>
      </p:pic>
      <p:pic>
        <p:nvPicPr>
          <p:cNvPr id="1131" name="图片 2" descr=""/>
          <p:cNvPicPr/>
          <p:nvPr/>
        </p:nvPicPr>
        <p:blipFill>
          <a:blip r:embed="rId2"/>
          <a:stretch/>
        </p:blipFill>
        <p:spPr>
          <a:xfrm>
            <a:off x="228600" y="5857920"/>
            <a:ext cx="85726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7:1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